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FBA93-2DB2-405F-99BE-6639A9749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66475-BB6D-45F7-B210-BDC827439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A33C8D-5BFA-41EC-9125-1DC4E98C1A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0B5321-8285-4F51-8DF7-BCF0DEBC0C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44FBCB-63E7-45CD-BF54-A25C074DD1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9C7837-78A3-4985-B3C8-98F34EE0A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A881CD-448F-4935-BEF6-D37FF4F81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A2814F-9CCE-4CDE-9083-ADA962470E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9AEE9A-E068-4598-9A58-EC43388C30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66D03E-0D07-42A7-A9D9-F968CB6C9F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254591-35C7-475B-8354-B62372B3C4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41985C-473A-492B-806D-16303F6AC9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E711C-3A61-4355-9190-FA61C8232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D1B0AB-8735-4C9D-8D44-8C17C29816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073502-76B8-4D32-A03A-C8D3F794EA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7303E0-18E5-495A-9B91-66ABF924E7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EC3901-2F78-4FDE-A330-CE85259A55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164B62-C754-4D06-8A2C-CBCE4D2181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0249E3-BE16-42FF-B11C-28D9278060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D15C8E-7BF4-426A-A2A9-6BCD6AB0AE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BCB97C-E26A-4DE8-9CA5-C78534FCA0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A88020-E78A-4AF2-8DB7-CD61F0459C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97096A-49B6-406E-82BF-B5E0F88E71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2A782-8ACD-410B-B9A8-D16552264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1B49AF-DE8C-4195-A58B-81EB186F68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1DCEE6-63DC-4D3C-A49B-B3E78348AE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FC6F08-E350-4EAD-ACD2-CA9E5F1422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A8252C-E7AD-48A3-B793-3937F3B3CA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5373BC-3737-4326-8B8B-EA0284BC4E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701D83-D852-439C-A322-4E52DBE464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F51446-0231-43F4-9462-6E5A4BB10E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2C179F-07A4-4FB9-B344-D6824521B2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1C6815-0ED0-4073-A41E-81FF675F80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911705-DCE5-4FE7-B11F-152DAC40C8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8511F-393B-4BEC-B89A-23169019A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48C65B-B5AB-414F-B483-1569D3E3E5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4B5411-C117-47A2-A041-A8240374A3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43DDCC-AC66-4447-B112-0803CC73CE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DE7AA4-CB1E-4A45-8737-A8459A5170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A69080-75C5-4C3C-A01D-23357658E2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C16268-0814-48AB-A071-CDF87D4DC0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071A02-9467-471F-8B6B-575AB4C647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598818-34F4-4BDC-81BB-BFD63061E6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F0C015-364F-4FEF-B264-69885D6A97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3DB692-DA2A-4B0D-9A6D-F3895230A2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11A10-A798-436B-8F4F-A2E786CFE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740C33-DBA6-494A-A06B-ED91B96454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12723F-3F71-4FBE-8D9D-FF56076312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00660F-B215-402E-8330-EBE62522A2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0ED900-92F4-4C4A-8D94-DFD792543D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D5D3C9-167E-44E7-8234-D805E70988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37624C-2ECE-40DE-88A5-239BA70C18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7CB028-1692-4849-8321-9284B56BD5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25E0F0-8044-42FE-AE37-8928651039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02F8A2-EE8C-408C-ABE2-2E28949AFC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9AEE95-4CCA-4D9E-9293-0735655EDF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1857B-396B-477A-8623-E454592AC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FFC0DB-B26B-4C1C-94A0-58ECAD613F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CA60AA-DCDD-46F2-BCAB-1307896C4C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AB8122-9541-49CD-AE38-A778C72D5B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ED2A2C-DE20-4466-995C-0B8956EB56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45FCD6-4025-4B8B-92CF-1961835C2B0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90965F6-03F3-4358-A680-DB3BA6ACFC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4F566DD-921D-4F8B-8821-435B09C8C41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9DCCE8B-1296-40DC-93F7-DCA47B8F679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848906-C548-4A43-A609-C8F8C9D307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5883E4-4312-470A-BF11-8F9CABADD2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0A7E6-AE99-46FD-95BA-E39888342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E02610-9411-4384-8A4C-E970DB84E5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2BADD7-CBA7-4795-A341-9ACE33EF4E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80F763-46F8-4AAF-8DF6-806E9E36E2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58B2F7-C05B-49A8-AF47-DF6FBF39EF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F966C1-EFC4-4593-8968-591EB364B3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336BC9-EE20-42FD-ADA4-284A98ADD3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ABAB4E-40F3-4268-92BE-538285A946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A4281D-A058-40DC-AF81-627DE1E5897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4FECE55-086E-41C4-9A93-A7040BC160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0CEDFCB-ABF4-4523-89D2-4A8BF6DB883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40868-8BAF-4290-AA7D-5B16A5364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9A48E07-9CA4-4DE9-BCAD-3AAE37711A4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969F49-6003-4EC2-B5F9-A7A3F1B332C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B28F1E-BFF1-4423-977D-58DFC889C2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ADAA30-D3A9-4898-9E2E-4DC4FB0E32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1D8BC47-293E-49C4-BA85-DA4182A467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72412C-6423-45C0-BC0B-6ACB763166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AE239A-F6F3-4D64-9D5F-10E5F26206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A8A9BB-A79E-4AC0-BC05-017ECC4E619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B865D8-1241-4DEA-9BC4-ECD5CC54D6E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63F2A87-BC68-425D-B8DF-E1523AA0CBF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EBB1F-F721-4E77-BF45-EBF27888E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68E2A2A-5008-4796-890B-C5B25F29114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B6A8161-56E1-4B24-8D8A-F21347E4A21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4B01EBD-7ECD-4062-B65B-D048347A45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883A04-6971-4B31-808C-C46EC02E75D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308668-BE3F-4609-A4CC-39398669B9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0E8745-77AB-4BA4-B722-20A16311B0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C0DA91-EA24-4D9F-8FB1-6F78A1D9F4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703002-AB1F-407A-AA5C-F895AFC7A0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97E89A-593C-4C7F-B506-55075D8481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D5EF879-59FF-4AD3-B176-0FC8538C33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E88AA-0DC7-41A5-B52A-5DEF19595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3240895-0960-4146-B0C1-1698803F001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8F2A14E-1891-4366-ABB1-C8AE508D032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47B7CDA-05DE-46F0-BCE0-329D6CE701A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EBDD543-28BF-4784-86B5-75117819ACC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084B542-69B5-4B92-BEBF-A5ACCAD02C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5CBD237-B0C9-4E63-B9A5-E4B316C3183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4D76549-C88F-485E-A806-C637921FA6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E3C6038-81F7-4A1F-AB83-A9A364F906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5F0B8DE-705F-43FC-9E59-49D1F94B55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149153-F514-4ECE-9731-0AC23911EB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134AD-5F82-4969-836C-A68261F8D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90BFA-ABED-4ECF-A79D-9879EECEC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54E899-0E32-4415-B172-9DBA946ACF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3121E3-84FB-49A2-98A2-33F181D6DFF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5CE0DA1-C46D-4877-BA04-B90066A6718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68A83B7-E451-4126-8914-7049AD195BD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7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E8B8599-5D6F-4989-B491-B4A5BCA2779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5125B-5EE1-4FA7-AEA5-F95D6BC47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D9CBD-2559-4182-94D3-C85319479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3B2F3-346D-4F23-ACA4-81B9A8AFF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B4ECC-03F7-4B9E-8994-6F9D10241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2FC5C-A9C2-4EA7-81F0-410F363500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277A0E-A3D7-4FBB-899C-9B949E871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3D3DA4-2994-42B5-B4F5-D21CDD23A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1FC43-7A34-452E-B710-D5AF1F5E79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1A34B-DE7F-4379-832C-3AE3AC384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14BAD-3307-4AC9-84D8-C8A7C71EF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2B336-54B9-447D-B500-BFA78685A1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123C1-183B-4D02-8A4A-D6235E16D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FCB15-4F95-494D-A48F-58FA496C6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E0F37-F521-4850-8638-7C25E1061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B3EDD-2836-4454-8608-AF47DF8AF9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A02AA3-126C-4779-9A1B-2007E51364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18453B-91BE-4C23-BB4F-D8462C8B5A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67824A-511C-4C70-9C8D-31F0CAF45B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BBFDF-6ACF-4D2D-B97E-1AECA9FEC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F56A2-3178-4E18-922F-7E5083A28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3E9F9-4626-41BC-9E42-C34C2DA2E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6283D-095B-4F72-A7F7-C8A1BEE08D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BCC419-B98A-4EE2-8E6E-93478C237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D827B-221F-42B0-B5B5-AEBA2306F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5CD91-0582-4991-8041-BB60DCB4A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44270-2ED2-4EF2-A6DA-59CCA2638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2E2EE-4AAF-4348-B801-D5ACDFC5F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FD74F4-9D58-4A52-9B52-7C1C048D6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D27A27-968F-4E2F-933F-A930E61A65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EE7426-10F3-48C1-B698-522B5F7E42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3980FD-7E2A-4ED0-AA63-06A8F4853A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FB52C-C15B-42EB-B4F6-A9FF2987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77CB3D-F9EB-4FA6-A871-24CFDD4A7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AE4635-0C69-4D92-9A27-A0114FBF7A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C56C98-345D-48ED-B93F-C52718ED4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C6ECE-ED3A-45C5-B667-19649E4F46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AF69AA-5E4A-426C-AEB1-3C63D46636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648FE-D9CD-43F6-8A7C-20925A397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DD67D3-FA34-499D-8567-B102E6A77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16D50-308B-47A2-85CC-DE4C9DE70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F43E8-4266-45ED-A867-ABEAFC8ECF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F45621-DE4C-4446-9775-8EE84B71C5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5B7C7-4E5E-4F2C-8B92-3FB50B458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289DE0-ED5B-4A65-98DE-7A2A3C9C99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2921CB-EE6C-456A-92AD-10A6A6DA98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3165C-8662-493B-903C-9C001CB64B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AA23C8-A7FD-4EE7-91E3-13EDCAE34F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044F76-DE9D-4DD6-839B-6EB5371A8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8EDCF1-1F4B-43CB-9F80-922E1F7A93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487A8B-DA17-4613-8B12-59315D02F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1F911-4084-495F-99C4-CA08AFFB9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BC6C1-767F-4CB7-9F9C-047F1F7A7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ECD45-1EED-40DE-9180-1ABF9C3D6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D19B-8FD5-463C-8843-8FA41F5F2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08F62-FC48-4255-99FA-2CAD4C496B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01D03C-1A62-4600-B85F-2F0001B1E6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8F8C8A-1325-43F1-87A1-EFA8492585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EDF3A1-F660-438A-BCDA-3A61D62C96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CDC835-805D-4F5E-9856-32F6B948EB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EA6E22-6D08-4484-8B0A-75ADA7681C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2E2F34-CFC0-4775-BB33-16903B9DB5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6EE5CD-E3BE-4395-BC2A-74177A9264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8B914C-626F-4F8A-BAF2-09315E322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10250C-9700-4085-B3E4-A8A5C6D0AD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8E67E-260A-4FB4-9AC4-DC657965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26140-930E-4995-B921-7339CC301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C643B5-B6E6-41FB-BD7F-3B1E8AA1B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3B330-D14B-4A45-978E-F8060358C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B1308A-016A-4E46-A0E0-EC4F7AFDEF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FBDEE9-FB81-4387-B89D-5844539DFD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60859D-6920-4488-B754-E5A9B56D85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DD4E33-DD35-4438-BFBD-A9325747CD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F1518-7B4F-4258-8EBF-740A27BAF8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9BF9C0-6B37-4013-A1D1-7C350C7D06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6A0BD-58F3-4AA6-A26B-BEDD72B7B6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546DF-C278-4972-90D4-80A09E82B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5BF52-4719-4FF0-8B10-D3C29B6D2F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B7E30A-D860-4537-B819-0841BEC15C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E315F0-6D1B-4187-BC53-B07917794C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2F593-1496-47AD-BAFB-C057E40D0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1A0DA2-46C2-4937-BE58-481C022472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E6BEC6-E715-4296-984D-61BF21B720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3D79B9-34A8-4675-A637-51D5F2EA11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B705D1-2B2D-4C77-8542-1AF3E65586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A500B-D7F4-4D9A-B4B9-1DBBEE67CD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875C5A-D7BB-48F8-A4E7-EAF0EB90F5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931BC-170B-4F54-A204-56C36596B261}"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E398B-F2CE-4FBD-8558-29783BE6C8D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6"/>
          <p:cNvGrpSpPr/>
          <p:nvPr/>
        </p:nvGrpSpPr>
        <p:grpSpPr>
          <a:xfrm>
            <a:off x="284040" y="452520"/>
            <a:ext cx="8575920" cy="137880"/>
            <a:chOff x="284040" y="452520"/>
            <a:chExt cx="8575920" cy="137880"/>
          </a:xfrm>
        </p:grpSpPr>
        <p:sp>
          <p:nvSpPr>
            <p:cNvPr id="415"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6"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7"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1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20"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B7DF8-A4D6-41CA-BF3E-54ABF8B701B0}"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421"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2"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C8D51-57EF-46D4-A6E5-6403AF40144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Group 6"/>
          <p:cNvGrpSpPr/>
          <p:nvPr/>
        </p:nvGrpSpPr>
        <p:grpSpPr>
          <a:xfrm>
            <a:off x="284040" y="452520"/>
            <a:ext cx="8575920" cy="137880"/>
            <a:chOff x="284040" y="452520"/>
            <a:chExt cx="8575920" cy="137880"/>
          </a:xfrm>
        </p:grpSpPr>
        <p:sp>
          <p:nvSpPr>
            <p:cNvPr id="460"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1"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6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5"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29839-7B92-45DA-8174-C27FBED75D6A}"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466"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7"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5EBF7-FC35-4581-9CDF-9EA9CE15681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5" name="Group 7"/>
          <p:cNvGrpSpPr/>
          <p:nvPr/>
        </p:nvGrpSpPr>
        <p:grpSpPr>
          <a:xfrm>
            <a:off x="284040" y="6262560"/>
            <a:ext cx="8575920" cy="138240"/>
            <a:chOff x="284040" y="6262560"/>
            <a:chExt cx="8575920" cy="138240"/>
          </a:xfrm>
        </p:grpSpPr>
        <p:sp>
          <p:nvSpPr>
            <p:cNvPr id="50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0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1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11"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57B11-E9B8-4408-B421-751FE701EFE9}"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512"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3"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E8354-1A9C-411B-9E6F-FBFEBAFFF19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oup 8"/>
          <p:cNvGrpSpPr/>
          <p:nvPr/>
        </p:nvGrpSpPr>
        <p:grpSpPr>
          <a:xfrm>
            <a:off x="284040" y="4280040"/>
            <a:ext cx="8575920" cy="137880"/>
            <a:chOff x="284040" y="4280040"/>
            <a:chExt cx="8575920" cy="137880"/>
          </a:xfrm>
        </p:grpSpPr>
        <p:sp>
          <p:nvSpPr>
            <p:cNvPr id="551"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2"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3"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5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6"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27C3D-A6A1-49E9-83F3-5E63813E7049}"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557"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5107A-3ED0-484D-8145-7468CF571D74}"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6" name="Group 14"/>
          <p:cNvGrpSpPr/>
          <p:nvPr/>
        </p:nvGrpSpPr>
        <p:grpSpPr>
          <a:xfrm>
            <a:off x="284040" y="461880"/>
            <a:ext cx="8575920" cy="136440"/>
            <a:chOff x="284040" y="461880"/>
            <a:chExt cx="8575920" cy="136440"/>
          </a:xfrm>
        </p:grpSpPr>
        <p:sp>
          <p:nvSpPr>
            <p:cNvPr id="597"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8"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9"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60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0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2"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F847F-059C-49C3-9D7F-7348FD1EFB8C}"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603"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4"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4059E-916C-4DC8-AC17-09D0A504B05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2" name="Group 7"/>
          <p:cNvGrpSpPr/>
          <p:nvPr/>
        </p:nvGrpSpPr>
        <p:grpSpPr>
          <a:xfrm>
            <a:off x="284040" y="6262560"/>
            <a:ext cx="8575920" cy="138240"/>
            <a:chOff x="284040" y="6262560"/>
            <a:chExt cx="8575920" cy="138240"/>
          </a:xfrm>
        </p:grpSpPr>
        <p:sp>
          <p:nvSpPr>
            <p:cNvPr id="64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6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8"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098C7-4A1A-4730-8E44-E36DD215C99C}"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649"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0"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1D0C4-B78E-4111-AAA1-D20C629CE49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688" name="Group 7"/>
          <p:cNvGrpSpPr/>
          <p:nvPr/>
        </p:nvGrpSpPr>
        <p:grpSpPr>
          <a:xfrm>
            <a:off x="284040" y="1577880"/>
            <a:ext cx="8575920" cy="136800"/>
            <a:chOff x="284040" y="1577880"/>
            <a:chExt cx="8575920" cy="136800"/>
          </a:xfrm>
        </p:grpSpPr>
        <p:sp>
          <p:nvSpPr>
            <p:cNvPr id="68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69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4"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52888-A50A-449B-986C-FAD3DDD0BB88}"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695"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6"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13C7F-A62F-4E9C-A04D-CFCDE809DBE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734" name="Group 7"/>
          <p:cNvGrpSpPr/>
          <p:nvPr/>
        </p:nvGrpSpPr>
        <p:grpSpPr>
          <a:xfrm>
            <a:off x="7556400" y="457200"/>
            <a:ext cx="138240" cy="5934240"/>
            <a:chOff x="7556400" y="457200"/>
            <a:chExt cx="138240" cy="5934240"/>
          </a:xfrm>
        </p:grpSpPr>
        <p:sp>
          <p:nvSpPr>
            <p:cNvPr id="735"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6"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7"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73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40"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968DE-8C2D-46CB-ACC6-906E66A69D54}"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741"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42"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F80AE-4E33-47DC-83C1-FF5B23ADD93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 name="Group 16"/>
          <p:cNvGrpSpPr/>
          <p:nvPr/>
        </p:nvGrpSpPr>
        <p:grpSpPr>
          <a:xfrm>
            <a:off x="284040" y="1906560"/>
            <a:ext cx="8575920" cy="138240"/>
            <a:chOff x="284040" y="1906560"/>
            <a:chExt cx="8575920" cy="138240"/>
          </a:xfrm>
        </p:grpSpPr>
        <p:sp>
          <p:nvSpPr>
            <p:cNvPr id="43"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6"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47"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5DAB7-43DD-4476-806B-08EBECFA2A7A}"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51"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364AE-C7A5-4F83-B352-29A310CAC9F3}"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Group 7"/>
          <p:cNvGrpSpPr/>
          <p:nvPr/>
        </p:nvGrpSpPr>
        <p:grpSpPr>
          <a:xfrm>
            <a:off x="284040" y="1577880"/>
            <a:ext cx="8575920" cy="136800"/>
            <a:chOff x="284040" y="1577880"/>
            <a:chExt cx="8575920" cy="136800"/>
          </a:xfrm>
        </p:grpSpPr>
        <p:sp>
          <p:nvSpPr>
            <p:cNvPr id="9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6"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A27B1-5399-4A13-930C-8EE055788867}"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53B27-64CF-49B2-964E-B8ED69D8E02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6" name="Group 16"/>
          <p:cNvGrpSpPr/>
          <p:nvPr/>
        </p:nvGrpSpPr>
        <p:grpSpPr>
          <a:xfrm>
            <a:off x="284040" y="1906560"/>
            <a:ext cx="8575920" cy="138240"/>
            <a:chOff x="284040" y="1906560"/>
            <a:chExt cx="8575920" cy="138240"/>
          </a:xfrm>
        </p:grpSpPr>
        <p:sp>
          <p:nvSpPr>
            <p:cNvPr id="137"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0"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3"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10B47-512A-401B-B1A6-3F1298734F41}"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144"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F9257-6D2A-4E8D-9DE8-4D09C5548763}"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3" name="Group 8"/>
          <p:cNvGrpSpPr/>
          <p:nvPr/>
        </p:nvGrpSpPr>
        <p:grpSpPr>
          <a:xfrm>
            <a:off x="284040" y="6262560"/>
            <a:ext cx="8575920" cy="138240"/>
            <a:chOff x="284040" y="6262560"/>
            <a:chExt cx="8575920" cy="138240"/>
          </a:xfrm>
        </p:grpSpPr>
        <p:sp>
          <p:nvSpPr>
            <p:cNvPr id="1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87"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90"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BDFC0-407F-49F9-8ACB-92C428FA3BDA}"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191"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2"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B3B0C-338F-4208-84E1-CAAA8F4A09FB}"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0" name="Group 7"/>
          <p:cNvGrpSpPr/>
          <p:nvPr/>
        </p:nvGrpSpPr>
        <p:grpSpPr>
          <a:xfrm>
            <a:off x="284040" y="6262560"/>
            <a:ext cx="8575920" cy="138240"/>
            <a:chOff x="284040" y="6262560"/>
            <a:chExt cx="8575920" cy="138240"/>
          </a:xfrm>
        </p:grpSpPr>
        <p:sp>
          <p:nvSpPr>
            <p:cNvPr id="231"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3"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34"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7"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CF5DF-AADF-4C98-A12D-35F58DEE8FCD}"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238"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9"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956BB-DEAF-4DCC-9725-2F6C0175E29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77" name="Group 7"/>
          <p:cNvGrpSpPr/>
          <p:nvPr/>
        </p:nvGrpSpPr>
        <p:grpSpPr>
          <a:xfrm>
            <a:off x="284040" y="1577880"/>
            <a:ext cx="8575920" cy="136800"/>
            <a:chOff x="284040" y="1577880"/>
            <a:chExt cx="8575920" cy="136800"/>
          </a:xfrm>
        </p:grpSpPr>
        <p:sp>
          <p:nvSpPr>
            <p:cNvPr id="278"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9"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8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3"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FE2A2-748F-4B5B-9345-86B9C8F06563}"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284"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5"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B11CE-5C7C-4CC1-BF2D-C8FBEB8A23A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23" name="Group 7"/>
          <p:cNvGrpSpPr/>
          <p:nvPr/>
        </p:nvGrpSpPr>
        <p:grpSpPr>
          <a:xfrm>
            <a:off x="284040" y="1577880"/>
            <a:ext cx="8575920" cy="136800"/>
            <a:chOff x="284040" y="1577880"/>
            <a:chExt cx="8575920" cy="136800"/>
          </a:xfrm>
        </p:grpSpPr>
        <p:sp>
          <p:nvSpPr>
            <p:cNvPr id="324"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5"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6"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2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9"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063EA-ACD5-472A-A9D2-AAB886901855}"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330"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1"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6AB9E-8D5F-40E8-B2FC-A787565C58FC}"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69" name="Group 7"/>
          <p:cNvGrpSpPr/>
          <p:nvPr/>
        </p:nvGrpSpPr>
        <p:grpSpPr>
          <a:xfrm>
            <a:off x="284040" y="1577880"/>
            <a:ext cx="8575920" cy="136800"/>
            <a:chOff x="284040" y="1577880"/>
            <a:chExt cx="8575920" cy="136800"/>
          </a:xfrm>
        </p:grpSpPr>
        <p:sp>
          <p:nvSpPr>
            <p:cNvPr id="37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7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5"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C8FE2-B965-45EA-B072-500C32A5671B}"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376"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43D15-48FF-4FFA-867B-28CCEB52F59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soil</a:t>
            </a:r>
            <a:endParaRPr b="0" lang="en-US" sz="4200" spc="-1" strike="noStrike">
              <a:solidFill>
                <a:srgbClr val="ffffff"/>
              </a:solidFill>
              <a:latin typeface="Corbel"/>
            </a:endParaRPr>
          </a:p>
        </p:txBody>
      </p:sp>
      <p:sp>
        <p:nvSpPr>
          <p:cNvPr id="780" name=""/>
          <p:cNvSpPr txBox="1"/>
          <p:nvPr/>
        </p:nvSpPr>
        <p:spPr>
          <a:xfrm>
            <a:off x="283680" y="2133720"/>
            <a:ext cx="857412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iscuss salinization, nutrient depletion and soil pollution as causes of soil degradation.</a:t>
            </a:r>
            <a:endParaRPr b="0" lang="en-US" sz="3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escribe the relevance of the soil organic matter (SOM) in preventing soil degradation, and outline its physical and biological functions</a:t>
            </a:r>
            <a:endParaRPr b="0" lang="en-US" sz="3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List common organic soil pollutants and their sources.</a:t>
            </a:r>
            <a:r>
              <a:rPr b="0" lang="en-GB" sz="3200" spc="-1" strike="noStrike">
                <a:solidFill>
                  <a:srgbClr val="262626"/>
                </a:solidFill>
                <a:latin typeface="Calibri"/>
              </a:rPr>
              <a:t> </a:t>
            </a:r>
            <a:endParaRPr b="0" lang="en-US" sz="3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Soil pollutants</a:t>
            </a:r>
            <a:endParaRPr b="0" lang="en-US" sz="4200" spc="-1" strike="noStrike">
              <a:solidFill>
                <a:srgbClr val="ffffff"/>
              </a:solidFill>
              <a:latin typeface="Corbel"/>
            </a:endParaRPr>
          </a:p>
        </p:txBody>
      </p:sp>
      <p:graphicFrame>
        <p:nvGraphicFramePr>
          <p:cNvPr id="800" name=""/>
          <p:cNvGraphicFramePr/>
          <p:nvPr/>
        </p:nvGraphicFramePr>
        <p:xfrm>
          <a:off x="728640" y="2351160"/>
          <a:ext cx="7899480" cy="2286000"/>
        </p:xfrm>
        <a:graphic>
          <a:graphicData uri="http://schemas.openxmlformats.org/drawingml/2006/table">
            <a:tbl>
              <a:tblPr/>
              <a:tblGrid>
                <a:gridCol w="2911320"/>
                <a:gridCol w="4988160"/>
              </a:tblGrid>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troleum hydrocarbons (hydrocarbons from crude oil)</a:t>
                      </a:r>
                      <a:r>
                        <a:rPr b="0" lang="en-GB" sz="2400" spc="-1" strike="noStrike">
                          <a:solidFill>
                            <a:srgbClr val="000000"/>
                          </a:solidFill>
                          <a:latin typeface="Arial"/>
                          <a:ea typeface="Arial"/>
                        </a:rPr>
                        <a:t> </a:t>
                      </a:r>
                      <a:endParaRPr b="0" lang="en-US" sz="24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solidFill>
                      <a:srgbClr val="ef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ounds such as hexane, petrol, benzene, diesel oil, jet fuels, lubricating oi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rect spills, leaks (e.g. from landfills or underground storage tanks), being dumped</a:t>
                      </a:r>
                      <a:r>
                        <a:rPr b="0" lang="en-GB" sz="2400" spc="-1" strike="noStrike">
                          <a:solidFill>
                            <a:srgbClr val="000000"/>
                          </a:solidFill>
                          <a:latin typeface="Arial"/>
                          <a:ea typeface="Arial"/>
                        </a:rPr>
                        <a:t> </a:t>
                      </a:r>
                      <a:endParaRPr b="0" lang="en-US" sz="24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solidFill>
                      <a:srgbClr val="efe7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salinization</a:t>
            </a:r>
            <a:endParaRPr b="0" lang="en-US" sz="4200" spc="-1" strike="noStrike">
              <a:solidFill>
                <a:srgbClr val="ffffff"/>
              </a:solidFill>
              <a:latin typeface="Corbel"/>
            </a:endParaRPr>
          </a:p>
        </p:txBody>
      </p:sp>
      <p:sp>
        <p:nvSpPr>
          <p:cNvPr id="782" name=""/>
          <p:cNvSpPr txBox="1"/>
          <p:nvPr/>
        </p:nvSpPr>
        <p:spPr>
          <a:xfrm>
            <a:off x="283680" y="1888920"/>
            <a:ext cx="8574120" cy="47718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alinization</a:t>
            </a:r>
            <a:r>
              <a:rPr b="0" lang="en-US" sz="3200" spc="-1" strike="noStrike">
                <a:solidFill>
                  <a:srgbClr val="262626"/>
                </a:solidFill>
                <a:latin typeface="Calibri"/>
              </a:rPr>
              <a:t> is the result of irrigating soils i.e. watering them. Water used for irrigation usually contains dissolved salts, which are left behind in the soil after the water evaporates.  </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In poorly drained soils, the salts left behind are not washed away and begin to accumulate in the topsoil. Plants cannot grow in soil that is too salty. </a:t>
            </a:r>
            <a:endParaRPr b="0" lang="en-US" sz="32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utrient depletion (1)</a:t>
            </a:r>
            <a:endParaRPr b="0" lang="en-US" sz="4200" spc="-1" strike="noStrike">
              <a:solidFill>
                <a:srgbClr val="ffffff"/>
              </a:solidFill>
              <a:latin typeface="Corbel"/>
            </a:endParaRPr>
          </a:p>
        </p:txBody>
      </p:sp>
      <p:sp>
        <p:nvSpPr>
          <p:cNvPr id="784" name=""/>
          <p:cNvSpPr txBox="1"/>
          <p:nvPr/>
        </p:nvSpPr>
        <p:spPr>
          <a:xfrm>
            <a:off x="283680" y="1904760"/>
            <a:ext cx="8574120" cy="4694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lants remove nutrients and minerals from the soil.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f the soil is not allowed to recover i.e. allowed time for the removed nutrients to be replaced through natural nutrient cycles the soil becomes depleted in nutrients and this will reduce future productivity.  Nutrients can also be replaced by using artificial fertilizers or compost.</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arvesting crops stops this natural nutrient cycle as the nutrients are removed permanently.</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noculture, i.e. growing the same crop time after time, accelerates nutrient depletion.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Nutrient depletion (2)</a:t>
            </a:r>
            <a:endParaRPr b="0" lang="en-US" sz="4200" spc="-1" strike="noStrike">
              <a:solidFill>
                <a:srgbClr val="ffffff"/>
              </a:solidFill>
              <a:latin typeface="Corbel"/>
            </a:endParaRPr>
          </a:p>
        </p:txBody>
      </p:sp>
      <p:sp>
        <p:nvSpPr>
          <p:cNvPr id="786"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Nutrient depletion can be prevented or slowed by: </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llowing soils to remain fallow (no crops are grown and nutrients can be replaced) for a while </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se crop rotation i.e. grow different crops which absorb different nutrients are some solutions.</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sing artificial fertilizers or compost.</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soil pollution</a:t>
            </a:r>
            <a:endParaRPr b="0" lang="en-US" sz="4200" spc="-1" strike="noStrike">
              <a:solidFill>
                <a:srgbClr val="ffffff"/>
              </a:solidFill>
              <a:latin typeface="Corbel"/>
            </a:endParaRPr>
          </a:p>
        </p:txBody>
      </p:sp>
      <p:sp>
        <p:nvSpPr>
          <p:cNvPr id="788" name=""/>
          <p:cNvSpPr txBox="1"/>
          <p:nvPr/>
        </p:nvSpPr>
        <p:spPr>
          <a:xfrm>
            <a:off x="283680" y="2133720"/>
            <a:ext cx="8574120" cy="430992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Excessive use of chemicals such as </a:t>
            </a:r>
            <a:r>
              <a:rPr b="1" lang="en-US" sz="2800" spc="-1" strike="noStrike">
                <a:solidFill>
                  <a:srgbClr val="ff0000"/>
                </a:solidFill>
                <a:latin typeface="Calibri"/>
              </a:rPr>
              <a:t>pesticides</a:t>
            </a:r>
            <a:r>
              <a:rPr b="0" lang="en-US" sz="2800" spc="-1" strike="noStrike">
                <a:solidFill>
                  <a:srgbClr val="262626"/>
                </a:solidFill>
                <a:latin typeface="Calibri"/>
              </a:rPr>
              <a:t> and </a:t>
            </a:r>
            <a:r>
              <a:rPr b="1" lang="en-US" sz="2800" spc="-1" strike="noStrike">
                <a:solidFill>
                  <a:srgbClr val="ff0000"/>
                </a:solidFill>
                <a:latin typeface="Calibri"/>
              </a:rPr>
              <a:t>fertilizers</a:t>
            </a:r>
            <a:r>
              <a:rPr b="0" lang="en-US" sz="2800" spc="-1" strike="noStrike">
                <a:solidFill>
                  <a:srgbClr val="262626"/>
                </a:solidFill>
                <a:latin typeface="Calibri"/>
              </a:rPr>
              <a:t>. </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se chemicals can:</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disrupt the soil food web, </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reduce the soil’s biodiversity</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ltimately ruin the soil. </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se chemicals also run off the soil into surface waters and move through the soil, polluting groundwater.</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              </a:t>
            </a:r>
            <a:r>
              <a:rPr b="0" lang="en-US" sz="3800" spc="-1" strike="noStrike">
                <a:solidFill>
                  <a:srgbClr val="ffffff"/>
                </a:solidFill>
                <a:latin typeface="Corbel"/>
              </a:rPr>
              <a:t>Soil organic matter (SOM) includes</a:t>
            </a:r>
            <a:endParaRPr b="0" lang="en-US" sz="3800" spc="-1" strike="noStrike">
              <a:solidFill>
                <a:srgbClr val="ffffff"/>
              </a:solidFill>
              <a:latin typeface="Corbel"/>
            </a:endParaRPr>
          </a:p>
        </p:txBody>
      </p:sp>
      <p:sp>
        <p:nvSpPr>
          <p:cNvPr id="790" name=""/>
          <p:cNvSpPr txBox="1"/>
          <p:nvPr/>
        </p:nvSpPr>
        <p:spPr>
          <a:xfrm>
            <a:off x="283680" y="1888920"/>
            <a:ext cx="8574120" cy="46940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lant and animal tissue such as leaves, twigs, animal parts e.g. skin, hair, ... that have not been decomposed yet.</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composition products of those animal and plant tissues such as: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molecular-mass organic materials such as polysaccharides and proteins and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mpler organic substances such as sugars, amino acids and other small molecule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umus which is what is left after plant and animal tissues are not being decomposed anymore. </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SOM prevents soil degradation </a:t>
            </a:r>
            <a:endParaRPr b="0" lang="en-US" sz="4200" spc="-1" strike="noStrike">
              <a:solidFill>
                <a:srgbClr val="ffffff"/>
              </a:solidFill>
              <a:latin typeface="Corbel"/>
            </a:endParaRPr>
          </a:p>
        </p:txBody>
      </p:sp>
      <p:sp>
        <p:nvSpPr>
          <p:cNvPr id="792" name=""/>
          <p:cNvSpPr txBox="1"/>
          <p:nvPr/>
        </p:nvSpPr>
        <p:spPr>
          <a:xfrm>
            <a:off x="283680" y="1874520"/>
            <a:ext cx="8574120" cy="46926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unctions of SOM can be broadly classified into two group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iological</a:t>
            </a:r>
            <a:r>
              <a:rPr b="0" lang="en-US" sz="2400" spc="-1" strike="noStrike">
                <a:solidFill>
                  <a:srgbClr val="262626"/>
                </a:solidFill>
                <a:latin typeface="Calibri"/>
              </a:rPr>
              <a:t>: provides nutrients for the plants, in particular nitrogen, as it provides amines and amino acid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hysical</a:t>
            </a:r>
            <a:r>
              <a:rPr b="0" lang="en-US" sz="2400" spc="-1" strike="noStrike">
                <a:solidFill>
                  <a:srgbClr val="262626"/>
                </a:solidFill>
                <a:latin typeface="Calibri"/>
              </a:rPr>
              <a:t>: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mproves structural stability,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fluences water-retention properties:  the OH</a:t>
            </a:r>
            <a:r>
              <a:rPr b="0" lang="en-US" sz="2400" spc="-1" strike="noStrike" baseline="30000">
                <a:solidFill>
                  <a:srgbClr val="262626"/>
                </a:solidFill>
                <a:latin typeface="Calibri"/>
              </a:rPr>
              <a:t>-</a:t>
            </a:r>
            <a:r>
              <a:rPr b="0" lang="en-US" sz="2400" spc="-1" strike="noStrike">
                <a:solidFill>
                  <a:srgbClr val="262626"/>
                </a:solidFill>
                <a:latin typeface="Calibri"/>
              </a:rPr>
              <a:t> and NH</a:t>
            </a:r>
            <a:r>
              <a:rPr b="0" lang="en-US" sz="2400" spc="-1" strike="noStrike" baseline="-25000">
                <a:solidFill>
                  <a:srgbClr val="262626"/>
                </a:solidFill>
                <a:latin typeface="Calibri"/>
              </a:rPr>
              <a:t>2</a:t>
            </a:r>
            <a:r>
              <a:rPr b="0" lang="en-US" sz="2400" spc="-1" strike="noStrike">
                <a:solidFill>
                  <a:srgbClr val="262626"/>
                </a:solidFill>
                <a:latin typeface="Calibri"/>
              </a:rPr>
              <a:t> groups on the SOM molecules allow hydrogen bonding between these molecules and water molecules in the soil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ters the soil thermal propertie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pollutants</a:t>
            </a:r>
            <a:endParaRPr b="0" lang="en-US" sz="4200" spc="-1" strike="noStrike">
              <a:solidFill>
                <a:srgbClr val="ffffff"/>
              </a:solidFill>
              <a:latin typeface="Corbel"/>
            </a:endParaRPr>
          </a:p>
        </p:txBody>
      </p:sp>
      <p:sp>
        <p:nvSpPr>
          <p:cNvPr id="79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graphicFrame>
        <p:nvGraphicFramePr>
          <p:cNvPr id="795" name=""/>
          <p:cNvGraphicFramePr/>
          <p:nvPr/>
        </p:nvGraphicFramePr>
        <p:xfrm>
          <a:off x="309600" y="1843200"/>
          <a:ext cx="8548560" cy="4708440"/>
        </p:xfrm>
        <a:graphic>
          <a:graphicData uri="http://schemas.openxmlformats.org/drawingml/2006/table">
            <a:tbl>
              <a:tblPr/>
              <a:tblGrid>
                <a:gridCol w="1765440"/>
                <a:gridCol w="6783120"/>
              </a:tblGrid>
              <a:tr h="515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lutan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r>
              <a:tr h="982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Agrichemical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e7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ticides (insecticides, fungicides, herbicides), fertilizers, growth hormones through direct application which is fine if controlled; problem is spills and overuse.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e7e7"/>
                    </a:solidFill>
                  </a:tcPr>
                </a:tc>
              </a:tr>
              <a:tr h="128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Hydrocarbo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7e7"/>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port, solvents, direct spills, leaks (e.g. from landfills or underground storage tanks), </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lls/leaks/dumping of dry cleaning solvents, paint thinners, nail polish remover, detergents,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7e7"/>
                    </a:solidFill>
                  </a:tcPr>
                </a:tc>
              </a:tr>
              <a:tr h="1925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Polynuclear aromatic hydrocarbons (PA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cbcb"/>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s common in coal, tar e.g. creosote which is used to preserve wood in buildings, fences, ships.</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Hs are present in coal and crude oil and are released during combustion</a:t>
                      </a:r>
                      <a:r>
                        <a:rPr b="1" lang="en-US" sz="1800" spc="-1" strike="noStrike">
                          <a:solidFill>
                            <a:srgbClr val="000000"/>
                          </a:solidFill>
                          <a:latin typeface="Arial"/>
                        </a:rPr>
                        <a:t> </a:t>
                      </a:r>
                      <a:r>
                        <a:rPr b="0" lang="en-US" sz="1800" spc="-1" strike="noStrike">
                          <a:solidFill>
                            <a:srgbClr val="000000"/>
                          </a:solidFill>
                          <a:latin typeface="Arial"/>
                        </a:rPr>
                        <a:t>e.g</a:t>
                      </a:r>
                      <a:r>
                        <a:rPr b="1" lang="en-US" sz="1800" spc="-1" strike="noStrike">
                          <a:solidFill>
                            <a:srgbClr val="000000"/>
                          </a:solidFill>
                          <a:latin typeface="Arial"/>
                        </a:rPr>
                        <a:t>. </a:t>
                      </a:r>
                      <a:r>
                        <a:rPr b="0" lang="en-US" sz="1800" spc="-1" strike="noStrike">
                          <a:solidFill>
                            <a:srgbClr val="000000"/>
                          </a:solidFill>
                          <a:latin typeface="Arial"/>
                        </a:rPr>
                        <a:t>industrial/power station emission and from incinerato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cbc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                                            </a:t>
            </a:r>
            <a:r>
              <a:rPr b="0" lang="en-US" sz="4200" spc="-1" strike="noStrike">
                <a:solidFill>
                  <a:srgbClr val="ffffff"/>
                </a:solidFill>
                <a:latin typeface="Corbel"/>
              </a:rPr>
              <a:t>pollutants</a:t>
            </a:r>
            <a:endParaRPr b="0" lang="en-US" sz="4200" spc="-1" strike="noStrike">
              <a:solidFill>
                <a:srgbClr val="ffffff"/>
              </a:solidFill>
              <a:latin typeface="Corbel"/>
            </a:endParaRPr>
          </a:p>
        </p:txBody>
      </p:sp>
      <p:sp>
        <p:nvSpPr>
          <p:cNvPr id="79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graphicFrame>
        <p:nvGraphicFramePr>
          <p:cNvPr id="798" name=""/>
          <p:cNvGraphicFramePr/>
          <p:nvPr/>
        </p:nvGraphicFramePr>
        <p:xfrm>
          <a:off x="284040" y="1598760"/>
          <a:ext cx="8574120" cy="4609800"/>
        </p:xfrm>
        <a:graphic>
          <a:graphicData uri="http://schemas.openxmlformats.org/drawingml/2006/table">
            <a:tbl>
              <a:tblPr/>
              <a:tblGrid>
                <a:gridCol w="2363760"/>
                <a:gridCol w="6210360"/>
              </a:tblGrid>
              <a:tr h="407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lutant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r>
              <a:tr h="869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Polychlorinated biphenyls (PCB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e7e7"/>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ks from electrical insulators, transformers, circuit breakers, electromagnets, hydraulic oils, pai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fe7e7"/>
                    </a:solidFill>
                  </a:tcPr>
                </a:tc>
              </a:tr>
              <a:tr h="21949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Organotin compound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7e7"/>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unds which contain at least one bond between tin and a hydrocarbon chain</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manufacture of antifouling compounds (coatings or paints) which prevent organisms (e.g. barnacles) from growing on surfaces exposed to water</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cide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ticides / biocidal agents;</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e7e7"/>
                    </a:solidFill>
                  </a:tcPr>
                </a:tc>
              </a:tr>
              <a:tr h="11372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1413"/>
                          </a:solidFill>
                          <a:latin typeface="Arial"/>
                        </a:rPr>
                        <a:t>Dioxi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cbcb"/>
                    </a:solidFill>
                  </a:tcPr>
                </a:tc>
                <a:tc>
                  <a:txBody>
                    <a:bodyPr lIns="68760" rIns="6876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ineration plants, wood burning, herbicides</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ad trough the air and settle on soi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cbc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3T09:14:03Z</dcterms:created>
  <dc:creator>Client Admin</dc:creator>
  <dc:description/>
  <dc:language>en-US</dc:language>
  <cp:lastModifiedBy>Nico Van De Casteele</cp:lastModifiedBy>
  <dcterms:modified xsi:type="dcterms:W3CDTF">2014-02-28T05:37:09Z</dcterms:modified>
  <cp:revision>13</cp:revision>
  <dc:subject/>
  <dc:title>Soil                                 : soil degradation</dc:title>
</cp:coreProperties>
</file>